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A2746-59EA-4060-9506-8C3CA1AB2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13A4D-17ED-4BD5-AFD4-4A133890F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74EA8-33DA-459F-849B-5AE2F8BC7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58538-8DF4-406D-BD75-E5033C242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90FD6-B943-41F3-AAA0-4C5EAFD7E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D763B-8DAC-4638-B181-7710538B8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A08CB-650F-4069-B3FB-BE72F15FB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FE4B8-1FF7-4DA0-9050-E3E9BE474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40C9A-D961-4631-AA6F-5867EF7A5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308BE-A3B1-4EFD-B7D7-22C249ACD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D5117-C2CE-4DF3-A7CC-3819A4209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573D1-047E-4051-807A-D3F2269E8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97444-70FA-41C8-94E2-B4D3F6DA0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69553-D784-4C36-8104-1680A31A8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5515A-C344-4B62-B428-5AF874173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6FE76-C534-47F6-91BE-78656B504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A3EEB5-6ADA-463A-A217-5C9B91440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92F00-683A-4963-BD05-7172C10BA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FBFFB-DDA3-48F8-A672-0E8869941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C37BF-1069-42E4-9885-AD6D03CEF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00B70-5D95-4C55-BC78-10A664E82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56D12-42A0-4CB4-8FE8-0A78C5A59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3AD96-19AF-4F32-97C1-D342DFB90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69FF7-5D3B-4DE2-A08F-95C86A4CD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889B-EAD4-47B5-A61E-2F567B1BC78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20211-9AF8-4CF1-A241-CE6B54B64B9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221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cc"/>
                </a:solidFill>
                <a:latin typeface="Tahoma"/>
              </a:rPr>
              <a:t>THE MEDIA</a:t>
            </a:r>
            <a:endParaRPr b="0" lang="en-US" sz="96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33"/>
                </a:solidFill>
                <a:latin typeface="Tahoma"/>
              </a:rPr>
              <a:t>Lecture 7</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ELEVISION and RADIO:</a:t>
            </a:r>
            <a:endParaRPr b="0" lang="en-US" sz="5400" spc="-1" strike="noStrike">
              <a:solidFill>
                <a:srgbClr val="ffffcc"/>
              </a:solidFill>
              <a:latin typeface="Tahoma"/>
            </a:endParaRPr>
          </a:p>
        </p:txBody>
      </p:sp>
      <p:sp>
        <p:nvSpPr>
          <p:cNvPr id="9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Tahoma"/>
              </a:rPr>
              <a:t>The BBC (British Broadcasting Corporation)</a:t>
            </a:r>
            <a:r>
              <a:rPr b="0" lang="en-US" sz="3200" spc="-1" strike="noStrike">
                <a:solidFill>
                  <a:srgbClr val="ffffff"/>
                </a:solidFill>
                <a:latin typeface="Tahoma"/>
              </a:rPr>
              <a:t> – broadcasts television and radio programmes</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Tahoma"/>
              </a:rPr>
              <a:t>The ITC (Independent television Commission)</a:t>
            </a:r>
            <a:r>
              <a:rPr b="0" lang="en-US" sz="3200" spc="-1" strike="noStrike">
                <a:solidFill>
                  <a:srgbClr val="ffffff"/>
                </a:solidFill>
                <a:latin typeface="Tahoma"/>
              </a:rPr>
              <a:t> – licenses and regulates commercial television services, including cable, satellite and independent teletext services</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Tahoma"/>
              </a:rPr>
              <a:t>The Radio Authorities</a:t>
            </a:r>
            <a:r>
              <a:rPr b="0" lang="en-US" sz="3200" spc="-1" strike="noStrike">
                <a:solidFill>
                  <a:srgbClr val="ffffff"/>
                </a:solidFill>
                <a:latin typeface="Tahoma"/>
              </a:rPr>
              <a:t> – licenses and regulates commercial radio services, including cable and satelli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cc"/>
                </a:solidFill>
                <a:latin typeface="Tahoma"/>
              </a:rPr>
              <a:t>The BBC</a:t>
            </a:r>
            <a:endParaRPr b="0" lang="en-US" sz="9600" spc="-1" strike="noStrike">
              <a:solidFill>
                <a:srgbClr val="ffffcc"/>
              </a:solidFill>
              <a:latin typeface="Tahoma"/>
            </a:endParaRPr>
          </a:p>
        </p:txBody>
      </p:sp>
      <p:sp>
        <p:nvSpPr>
          <p:cNvPr id="93"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9000"/>
          </a:bodyPr>
          <a:p>
            <a:pPr marL="339480" indent="-3394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as a regional structure throughout the UK: BBC for the English regions, BBC Scotland, BBC Wales and BBC Northern Ireland;</a:t>
            </a:r>
            <a:endParaRPr b="0" lang="en-US" sz="3600" spc="-1" strike="noStrike">
              <a:solidFill>
                <a:srgbClr val="ffffff"/>
              </a:solidFill>
              <a:latin typeface="Tahoma"/>
            </a:endParaRPr>
          </a:p>
          <a:p>
            <a:pPr marL="339480" indent="-3394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 the main public service broadcaster in the UK, according to the Royal Charter; </a:t>
            </a:r>
            <a:endParaRPr b="0" lang="en-US" sz="3600" spc="-1" strike="noStrike">
              <a:solidFill>
                <a:srgbClr val="ffffff"/>
              </a:solidFill>
              <a:latin typeface="Tahoma"/>
            </a:endParaRPr>
          </a:p>
          <a:p>
            <a:pPr marL="339480" indent="-3394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 financed by a license fee bought by all TV owners in Britain</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BBC structure</a:t>
            </a:r>
            <a:endParaRPr b="0" lang="en-US" sz="4400" spc="-1" strike="noStrike">
              <a:solidFill>
                <a:srgbClr val="ffffcc"/>
              </a:solidFill>
              <a:latin typeface="Tahoma"/>
            </a:endParaRPr>
          </a:p>
        </p:txBody>
      </p:sp>
      <p:sp>
        <p:nvSpPr>
          <p:cNvPr id="95"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BBC Broadcast</a:t>
            </a:r>
            <a:r>
              <a:rPr b="0" lang="en-US" sz="2800" spc="-1" strike="noStrike">
                <a:solidFill>
                  <a:srgbClr val="ffffff"/>
                </a:solidFill>
                <a:latin typeface="Tahoma"/>
              </a:rPr>
              <a:t>, which schedules channels services for audience in the UK and abroad;</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BBC Production</a:t>
            </a:r>
            <a:r>
              <a:rPr b="0" lang="en-US" sz="2800" spc="-1" strike="noStrike">
                <a:solidFill>
                  <a:srgbClr val="ffffff"/>
                </a:solidFill>
                <a:latin typeface="Tahoma"/>
              </a:rPr>
              <a:t>, which develops the BBC’s in-house radio and television production capability across all genres and media;</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BBC News</a:t>
            </a:r>
            <a:r>
              <a:rPr b="0" lang="en-US" sz="2800" spc="-1" strike="noStrike">
                <a:solidFill>
                  <a:srgbClr val="ffffff"/>
                </a:solidFill>
                <a:latin typeface="Tahoma"/>
              </a:rPr>
              <a:t>, which is responsible for an integrated national and international news operation across the full range of BBC service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BBC Worldwide</a:t>
            </a:r>
            <a:r>
              <a:rPr b="0" lang="en-US" sz="2800" spc="-1" strike="noStrike">
                <a:solidFill>
                  <a:srgbClr val="ffffff"/>
                </a:solidFill>
                <a:latin typeface="Tahoma"/>
              </a:rPr>
              <a:t>, which is a major international broadcaster and a leading distributor and co-producer of BBC programme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Tahoma"/>
              </a:rPr>
              <a:t>BBC World Service</a:t>
            </a:r>
            <a:r>
              <a:rPr b="0" lang="en-US" sz="2800" spc="-1" strike="noStrike">
                <a:solidFill>
                  <a:srgbClr val="ffffff"/>
                </a:solidFill>
                <a:latin typeface="Tahoma"/>
              </a:rPr>
              <a:t>, which broadcasts by radio in English and 42 other languages worldwide. Its global weekly audience is over 140 mln listen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BBC Television</a:t>
            </a:r>
            <a:endParaRPr b="0" lang="en-US" sz="5400" spc="-1" strike="noStrike">
              <a:solidFill>
                <a:srgbClr val="ffffcc"/>
              </a:solidFill>
              <a:latin typeface="Tahoma"/>
            </a:endParaRPr>
          </a:p>
        </p:txBody>
      </p:sp>
      <p:sp>
        <p:nvSpPr>
          <p:cNvPr id="9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casts 20000 hours of TV each year on its two domestic channels (BBC ONE and BBC TWO) to national and regional audience</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ucation is a central component of the BBC’s public service on its domestic channels. A wide range of educational programmes is broadcast for primary and secondary schools, further education colleges and the Open University. Programmes for adults cover numeracy, literacy, language learning, health, work and vocational trai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ITV (Channel 3)</a:t>
            </a:r>
            <a:endParaRPr b="0" lang="en-US" sz="6000" spc="-1" strike="noStrike">
              <a:solidFill>
                <a:srgbClr val="ffffcc"/>
              </a:solidFill>
              <a:latin typeface="Tahoma"/>
            </a:endParaRPr>
          </a:p>
        </p:txBody>
      </p:sp>
      <p:sp>
        <p:nvSpPr>
          <p:cNvPr id="9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made up of 15 regionally based TV companies which are licensed to supply programmes in the 14 independent TV geographical region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programmes appealing to a wide range of viewers’ tastes and interest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out 1/3 of the output is made up of informative programmes – news, documentaries, coverage of current affairs, education and religion. The rest is drama, entertainment, arts, sport and children’s programm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nnel 4 and S4C</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en-US" sz="4800" spc="-1" strike="noStrike">
                <a:solidFill>
                  <a:srgbClr val="ffffff"/>
                </a:solidFill>
                <a:latin typeface="Tahoma"/>
              </a:rPr>
              <a:t>Provides a national 24-hour TV service throughout the UK, except in Wales, which has a corresponding service S4C (Sianel Pedwar Cymru)</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hannel 5</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newest national terrestrial channel</a:t>
            </a:r>
            <a:endParaRPr b="0" lang="en-US" sz="4400" spc="-1" strike="noStrike">
              <a:solidFill>
                <a:srgbClr val="ffffff"/>
              </a:solidFill>
              <a:latin typeface="Tahoma"/>
            </a:endParaRPr>
          </a:p>
          <a:p>
            <a:pPr marL="343080" indent="-343080">
              <a:spcBef>
                <a:spcPts val="11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hows programmes of quality and diversity with a wide range of original productions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1T19:44:32Z</dcterms:created>
  <dc:creator>ALLA</dc:creator>
  <dc:description/>
  <dc:language>en-US</dc:language>
  <cp:lastModifiedBy>anazarenko</cp:lastModifiedBy>
  <dcterms:modified xsi:type="dcterms:W3CDTF">2008-05-05T13:08:14Z</dcterms:modified>
  <cp:revision>10</cp:revision>
  <dc:subject/>
  <dc:title>THE MEDIA</dc:title>
</cp:coreProperties>
</file>